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E0F-F8B2-4510-B3C3-FE997342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6BA-58BB-4861-873F-EC2A8D1F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868-A13B-431B-A9A9-EFB9F22C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AD0-5297-4F50-903E-F9CDDA36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FE6-3A90-45B3-8D21-3E4FF871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0C6-6D33-4BB7-8D94-70EBDA7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B0E-3CD8-47D5-A016-750104BF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925-2729-4E38-AB64-C4A95E94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1B5-39C1-4F48-AF35-3218EA8C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6A0-275C-4240-A46B-0F872D2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B6B-81A1-4F3D-B09A-93DD1721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B3C-5249-4936-856E-F91DF4DB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A2AC27-7C6B-41C4-B19F-3553B99F7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4Beaml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Swiss Army Knife” for Geant4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ttp://g4beamline.muonsin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Rob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on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798480" cy="11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099-91AF-442C-B1F6-3F1B3EDF46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Uses – Cosmic Ray Tom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74880" y="990720"/>
            <a:ext cx="539280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7A9-65B0-408C-8230-8808CF7F3A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1.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example1.in – put beam into 4 det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s  LHEP_B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m  gaussian  particle=mu+  nEvents=1000  beamZ=0.0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maX=10.0  sigmaY=10.0  sigmaXp=0.100  sigmaYp=0.100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Momentum=200.0  sigmaP=4.0  meanT=0.0  sigmaT=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eamVis just shows where the beam com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  BeamVis  width=100.0  height=100.0  length=0.1 color=1,0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fine the detector (used 4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  Det  radius=1000.0  color=0,1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lace BeamVis and four detectors, putting their number into thei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BeamVis  z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1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2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3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4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4CA-AD0D-4074-9023-4B88D2D49D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94800" cy="292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2311" t="29669" r="11632" b="18685"/>
          <a:stretch/>
        </p:blipFill>
        <p:spPr>
          <a:xfrm>
            <a:off x="4495680" y="3809880"/>
            <a:ext cx="3581640" cy="251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1.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000" y="4343400"/>
            <a:ext cx="303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 of example1.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OpenGL (above)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Inventor (right). Abov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lan view, while at right i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D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DBE-C411-4149-BD9E-B4DB0FBC6C4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471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2.in (4 cells from Study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C05-D5BF-4C1B-BFE6-7F3C9F68B0D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of interactive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 of the MICE beamline via Open Inve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of histograms and manipulating them via Histo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7F5-E0C1-4A99-B5AA-050EC53F19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4Beamline is a simulation program capable of accurate and realistic simulation via single-particle tr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an intuitive, user-friendly interface that reflects the complexity of the problem, and is directly readable by physicists familiar with the problem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of complex accelerator structures can be performed without C++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4200" y="54864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ttp://g4beamline.muonsin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0A9-F95C-49AE-9D54-840D86BAC2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general, flexible, and extensible program for Geant4 simulations, optimized for beam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it is much more general than just beamlines (e.g. there is a cosmic-ray “beam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no programming by users, but is sophisticated enough to simulate the Study II SFoFo Cooling Channel, and flexible enough to do the MICE beamline and cosmic-ray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straightforward ASCII input file to completely determine the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user-friendly input generation, visualization of the system, and analysis of the sim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realistic and accurate particle tracking and interactions (incl. EM, weak, and hadron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support for scripting and parallel jobs on a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5C5-7773-4706-AD2A-B7D5372340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idea is to define each beamline element, and then place each one into the beamline at the appropriate place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spects of the simulation are specified in a single ASCII inpu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s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contro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 of output NTu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file consists of a sequence of commands with named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mmand has its own list of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and argument names are spelled out, so the input file becomes a record of the simulation that is readable b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E67-4880-4098-B6FE-53C370A2B8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amline elements implemente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bsorber – a material absorber with shaped containment and safety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ox – a material in the shape of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rner – rotate the centerline coordinates, for bend or secondary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smicraybeam – a “beam” of cosmic-ray mu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ieldmap – read a field map from a file, for E and/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nericbend – a generic bending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nericquad – a generic quadrupole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elicaldipole – a helical dipole magnet for 6-D muon coo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dealsectorbend – a sector bending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illbox – a pillbox RF cavity, including optional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olycone – a material in the shape of multiple c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olenoid – a single-coil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phere – a material in the shape of a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rap – a material in the shape of a trapez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ubs – a material in the shape of a cylinder or p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irtualdetector – a ‘perfect’ detector for monitoring the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0A8-37A4-48B7-B0A8-498C1FDA46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ion control comman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eam – specify the incoming beam (from a file or randomly gener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– specify a reference p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lace – position a previously-defined object into th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material – specify the properties of a new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geometry – perform geometrical tests for invalid intersections of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 – define parameters for program or in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rticlecolor – specify the display colors for particl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rticlefilter – cut particles by type or momentum, force decay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hysics – defines the physics processes and controls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rackcuts – impose specific cuts on t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line layout comman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 – defines the starting point and orientation of the beam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ner – inserts a corner into the Centerline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nerarc – inserts a corner into the Centerline coordinates, with path length of an 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CE9-9843-4C1D-8E9B-AC132DAAF4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manual procedures have been automa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eld maps of solenoids can be automatically determined by specifying the required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Cavities can be tuned, for timing and gradient; both can be fixed or automatically tu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y layout has been vastly simpl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am elements are simply lined up along the Z 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erline coordinates behave naturally for bending magnets or secondary 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ments may overlap (e.g. nested pipes), but not inters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y elements can be the parent of othe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offsets in X, Y, and/or Z can be specified when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s are specified natur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30,Z90 is a 30 degree rotation around Y followed by a 90 degree rotation around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xes are for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olume and thus do not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ic geometry testing detects invalid inters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f the Geant4 8.1 physics use cases are available by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 tracks can be generated internally, or read from 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Geant4 visualization drivers are supported by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Inventor is included, and is by far the most user friend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A99-4196-45C8-99B9-F43542F6B5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108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 is a program that reduces the complexity of the user input to that of the system being simulated (a major drawback of any simulation program, including those using Geant4, is that C++ simulation code is considerably more complex than the proble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C++ programming is not required to use the program, knowledge of the problem domain is absolutely required, as is enough experience to distinguish sensible results from nons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ization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gh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ommended, to verify that the geometry is correct and makes s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210-2287-4E07-86E7-0D15E1D6EF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Uses – M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9920" y="990720"/>
            <a:ext cx="700236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CF8-C485-4FC5-B246-5CFCB22DDA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Uses – 6D Muon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19240" y="990720"/>
            <a:ext cx="510552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F56-8B74-4D16-8440-260D10EB87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1:00:44Z</dcterms:created>
  <dc:creator>Tom Roberts</dc:creator>
  <dc:description/>
  <dc:language>en-US</dc:language>
  <cp:lastModifiedBy>Tom Roberts</cp:lastModifiedBy>
  <cp:lastPrinted>2003-01-22T14:43:48Z</cp:lastPrinted>
  <dcterms:modified xsi:type="dcterms:W3CDTF">2007-06-22T15:06:33Z</dcterms:modified>
  <cp:revision>62</cp:revision>
  <dc:subject/>
  <dc:title>Simulations of the Study 2 Cooling Channel with Realistic Absorber Windows</dc:title>
</cp:coreProperties>
</file>