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9941-D685-46C7-9B79-F67C616D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368-4AAA-47BA-8294-875F88C0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696-FB31-4084-B862-94BBAE23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1F2-EA01-4C8F-AAC7-BACF3EDF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9D0-88BF-4186-A081-32579E3F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5B5C-BF01-47CE-A518-157A5152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716-872E-466E-9EF8-210DB0CE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B41F-0B68-4688-A589-8F2B80C9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61D2-0782-4D28-9AC7-17C4F1A6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0656-B6A6-4DA9-8F8A-221830BF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EB8-D98D-40C0-87AD-B0B7E714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2116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F01-090D-4FD7-B05E-6783B4ED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D840008-C414-4656-A8D7-6D3A27B52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4Beamline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“Swiss Army Knife” for Geant4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http://g4beamline.muonsinc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1907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Robe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on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38480" y="5181480"/>
            <a:ext cx="798480" cy="1189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A66D-1751-418F-95A5-9318C006CB2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Uses – Cosmic Ray Tom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874880" y="990720"/>
            <a:ext cx="539280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B08-F81B-487E-963D-C843BEFE360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1.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example1.in – put beam into 4 det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s  LHEP_B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m  gaussian  particle=mu+  nEvents=1000  beamZ=0.0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maX=10.0  sigmaY=10.0  sigmaXp=0.100  sigmaYp=0.100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Momentum=200.0  sigmaP=4.0  meanT=0.0  sigmaT=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BeamVis just shows where the beam com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x  BeamVis  width=100.0  height=100.0  length=0.1 color=1,0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define the detector (used 4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ctor  Det  radius=1000.0  color=0,1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place BeamVis and four detectors, putting their number into their n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 BeamVis  z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 Det  z=1000.0  rename=Det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 Det  z=2000.0  rename=Det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 Det  z=3000.0  rename=Det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 Det  z=4000.0  rename=Det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8D4-5F61-4CDD-A472-DAE5C9CF27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6994800" cy="2922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12311" t="29669" r="11632" b="18685"/>
          <a:stretch/>
        </p:blipFill>
        <p:spPr>
          <a:xfrm>
            <a:off x="4495680" y="3809880"/>
            <a:ext cx="3581640" cy="2514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1.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000" y="4343400"/>
            <a:ext cx="303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ualizations of example1.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OpenGL (above)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Inventor (right). Above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lan view, while at right is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D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EB13-7F39-4CE5-B22E-C6F442CE914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305920" cy="4719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2.in (4 cells from Study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5368-0E4C-4798-8909-44B4894E6F7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ion of interactive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ization of the MICE beamline via Open Inven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ion of histograms and manipulating them via HistoRo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24CE-A0F2-4207-A495-0DED117797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4Beamline is a simulation program capable of accurate and realistic simulation via single-particle trac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as an intuitive, user-friendly interface that reflects the complexity of the problem, and is directly readable by physicists familiar with the problem dom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s of complex accelerator structures can be performed without C++ program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4200" y="54864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http://g4beamline.muonsinc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37D-3C98-4AE6-8C89-A6EE4DD99EA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a general, flexible, and extensible program for Geant4 simulations, optimized for beam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it is much more general than just beamlines (e.g. there is a cosmic-ray “beam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no programming by users, but is sophisticated enough to simulate the Study II SFoFo Cooling Channel, and flexible enough to do the MICE beamline and cosmic-ray stud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straightforward ASCII input file to completely determine the sim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user-friendly input generation, visualization of the system, and analysis of the sim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realistic and accurate particle tracking and interactions (incl. EM, weak, and hadroni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support for scripting and parallel jobs on a 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273-8040-4EA9-A738-409881B08D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e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ic idea is to define each beamline element, and then place each one into the beamline at the appropriate place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spects of the simulation are specified in a single ASCII input f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s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contro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on of output NTu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 file consists of a sequence of commands with named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ommand has its own list of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 and argument names are spelled out, so the input file becomes a record of the simulation that is readable by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6F85-1160-49E1-BA58-850185C31F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e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eamline elements implemented 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bsorber – a material absorber with shaped containment and safety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ox – a material in the shape of a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rner – rotate the centerline coordinates, for bend or secondary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smicraybeam – a “beam” of cosmic-ray mu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ieldmap – read a field map from a file, for E and/or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enericbend – a generic bending mag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enericquad – a generic quadrupole mag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helicaldipole – a helical dipole magnet for 6-D muon coo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dealsectorbend – a sector bending mag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illbox – a pillbox RF cavity, including optional wind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olycone – a material in the shape of multiple c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olenoid – a single-coil mag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phere – a material in the shape of a sp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rap – a material in the shape of a trapez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ubs – a material in the shape of a cylinder or pi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virtualdetector – a ‘perfect’ detector for monitoring the 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125B-0467-45DC-AED8-33FD48A8FB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e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ation control comman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eam – specify the incoming beam (from a file or randomly genera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ence – specify a reference parti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lace – position a previously-defined object into the 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material – specify the properties of a new mate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geometry – perform geometrical tests for invalid intersections of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 – define parameters for program or input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articlecolor – specify the display colors for particle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articlefilter – cut particles by type or momentum, force decay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hysics – defines the physics processes and controls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rackcuts – impose specific cuts on tr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mline layout comman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t – defines the starting point and orientation of the beam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ner – inserts a corner into the Centerline coord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nerarc – inserts a corner into the Centerline coordinates, with path length of an a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F43-4CDC-4105-A2EE-069C71C117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e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x manual procedures have been automat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eld maps of solenoids can be automatically determined by specifying the required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F Cavities can be tuned, for timing and gradient; both can be fixed or automatically tu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metry layout has been vastly simpl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am elements are simply lined up along the Z 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erline coordinates behave naturally for bending magnets or secondary tar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ments may overlap (e.g. nested pipes), but not inters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y elements can be the parent of other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 offsets in X, Y, and/or Z can be specified when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tations are specified natur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30,Z90 is a 30 degree rotation around Y followed by a 90 degree rotation around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xes are for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volume and thus do not ch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ic geometry testing detects invalid inters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of the Geant4 8.1 physics use cases are available by n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am tracks can be generated internally, or read from a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Geant4 visualization drivers are supported by na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Inventor is included, and is by far the most user friend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3F4-BB07-4D4B-813D-347A8F0FC4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the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1080"/>
            <a:ext cx="777240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ult is a program that reduces the complexity of the user input to that of the system being simulated (a major drawback of any simulation program, including those using Geant4, is that C++ simulation code is considerably more complex than the proble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C++ programming is not required to use the program, knowledge of the problem domain is absolutely required, as is enough experience to distinguish sensible results from nonsen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ization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igh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commended, to verify that the geometry is correct and makes sen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56A-C140-4731-A676-513DB9745E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Uses – M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9920" y="990720"/>
            <a:ext cx="700236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BE8-448C-4878-B782-E6B7C41D43E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Uses – 6D Muon C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19240" y="990720"/>
            <a:ext cx="5105520" cy="510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4Beamlin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18E-2734-4696-AD74-4F59F0D7F4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TJR  February 6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01:00:44Z</dcterms:created>
  <dc:creator>Tom Roberts</dc:creator>
  <dc:description/>
  <dc:language>en-US</dc:language>
  <cp:lastModifiedBy>Tom Roberts</cp:lastModifiedBy>
  <cp:lastPrinted>2003-01-22T14:43:48Z</cp:lastPrinted>
  <dcterms:modified xsi:type="dcterms:W3CDTF">2007-06-22T15:06:33Z</dcterms:modified>
  <cp:revision>62</cp:revision>
  <dc:subject/>
  <dc:title>Simulations of the Study 2 Cooling Channel with Realistic Absorber Windows</dc:title>
</cp:coreProperties>
</file>